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FCA2-087C-48F4-9E35-5188F0FCF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8A7B-0873-4525-90F7-C90491530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11B8-40ED-424B-9640-B5B987536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1FF5-24B5-47C8-8012-B05A452FA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E4703-A1E3-482D-BCDE-D96E9B573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2F604-C425-494D-AFE5-91FC0A025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FCB98-4D29-4DC5-8760-BE936E982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ECE85-CFFD-4BE4-ACD3-CA77A7821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BDCB7-D83F-4DAE-A0DA-C15AFBDF3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03118-5949-41D9-96A2-CBBA7C97C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D0852-06A7-4039-B841-93923F565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1166-4EA3-4C24-B0D7-718321AB5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66C8F-7CAB-4857-9704-AAFB64A3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01AF9-F79D-475C-9C37-C9E686A6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CD378-717B-40C0-9794-D36F29758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B2FFC-2A61-46A2-A8EB-75A3034A9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B0E77-76AC-419B-A35B-E96D4225D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7F9D-A365-4FAA-BAB5-439D6FC9D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1260-A820-4796-90A4-4D530E5D1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E996-5693-4FAB-8E86-8C81A1F65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8AB4-2710-48DE-8387-49F2F3CD2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398B-0DEF-433F-88E7-B21DB792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A414-DA17-46A0-B34C-96775CB75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55A6-9AC5-4920-AD22-355A273A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7CD13-E99F-4957-9CE2-FFD4F3FC2C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5229360"/>
            <a:ext cx="77230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D6553-BCA5-4981-BE9C-6E23982CA7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33440" algn="ctr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752480" algn="ctr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7524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7524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838080" y="5105520"/>
            <a:ext cx="78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utting Together the Pieces of Differentiatio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762120" y="1773000"/>
            <a:ext cx="7696080" cy="3484440"/>
          </a:xfrm>
          <a:prstGeom prst="rect">
            <a:avLst/>
          </a:prstGeom>
          <a:solidFill>
            <a:srgbClr val="d8e1e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ite a reflection paragraph in noting which strategies from today you plan to try and how you plan to implement the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28600"/>
            <a:ext cx="769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Closure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914400" y="304920"/>
            <a:ext cx="716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Warm-Up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solidFill>
            <a:srgbClr val="d8e1ec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o you already differentiate in your classe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914400" y="304920"/>
            <a:ext cx="716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Objective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762120" y="1773000"/>
            <a:ext cx="7696080" cy="3027240"/>
          </a:xfrm>
          <a:prstGeom prst="rect">
            <a:avLst/>
          </a:prstGeom>
          <a:solidFill>
            <a:srgbClr val="d8e1ec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xplore aspects of differentiation and their applications for students in the co-taught classroo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914400" y="304920"/>
            <a:ext cx="716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Brainstorm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762120" y="1773000"/>
            <a:ext cx="7696080" cy="3865320"/>
          </a:xfrm>
          <a:prstGeom prst="rect">
            <a:avLst/>
          </a:prstGeom>
          <a:solidFill>
            <a:srgbClr val="d8e1ec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hy is differentiation especially important in a co-taught class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762120" y="1773360"/>
            <a:ext cx="7696080" cy="3179520"/>
          </a:xfrm>
          <a:prstGeom prst="rect">
            <a:avLst/>
          </a:prstGeom>
          <a:solidFill>
            <a:srgbClr val="d8e1ec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urpose for viewing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How does the message of this video set the stage for differentiatio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22860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Video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762120" y="1773360"/>
            <a:ext cx="7696080" cy="3179520"/>
          </a:xfrm>
          <a:prstGeom prst="rect">
            <a:avLst/>
          </a:prstGeom>
          <a:solidFill>
            <a:srgbClr val="d8e1ec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ependently complete the Bender Classroom Structure Questionnai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fter completing it, discuss the results with your partn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304920"/>
            <a:ext cx="777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Questionnair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762120" y="1773360"/>
            <a:ext cx="7696080" cy="3179520"/>
          </a:xfrm>
          <a:prstGeom prst="rect">
            <a:avLst/>
          </a:prstGeom>
          <a:solidFill>
            <a:srgbClr val="d8e1ec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ke the pre-assessment 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-Assessment, Differentiation, and Extension Menus.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green light or stop sig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152280"/>
            <a:ext cx="70866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e-Assess Your Understanding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762120" y="1773000"/>
            <a:ext cx="7696080" cy="3941640"/>
          </a:xfrm>
          <a:prstGeom prst="rect">
            <a:avLst/>
          </a:prstGeom>
          <a:solidFill>
            <a:srgbClr val="d8e1ec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ach category, note whether you chose the green light or the stop sign.  Complete the activity in that box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should complete 3 activities (one for each category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152280"/>
            <a:ext cx="685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304920"/>
            <a:ext cx="777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Differentiation Menu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762120" y="1773000"/>
            <a:ext cx="7696080" cy="2950920"/>
          </a:xfrm>
          <a:prstGeom prst="rect">
            <a:avLst/>
          </a:prstGeom>
          <a:solidFill>
            <a:srgbClr val="d8e1ec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Reading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Writing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Vocabulary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152280"/>
            <a:ext cx="77724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re 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ifferentiation Strategies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4T21:27:20Z</dcterms:created>
  <dc:creator>fcps</dc:creator>
  <dc:description/>
  <cp:keywords/>
  <dc:language>en-US</dc:language>
  <cp:lastModifiedBy>fcps</cp:lastModifiedBy>
  <dcterms:modified xsi:type="dcterms:W3CDTF">2011-03-28T18:07:52Z</dcterms:modified>
  <cp:revision>2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7991033</vt:lpwstr>
  </property>
</Properties>
</file>